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D43-3920-402D-97AA-8F53646D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6D7-2BC3-4C33-9FB3-96277C60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154E-55DC-49EA-90D2-E307A149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580-BFEC-4041-9DED-E286B3AF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EAD1A-E891-4176-BB4A-E38723A9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90723-0613-45CA-8ADF-FA877142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0540D-B6C3-4BC9-A911-F7F5BA7B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9C68C-E633-4199-B1D8-0B97CD0F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D64D6-306D-4343-A803-2B44D8EA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70E0B-ACF6-451D-B3D7-7086F305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3E5A5-6684-4411-8533-5E510C45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EE9-5F9A-4CFA-ACAA-D543A279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F5FB7-0D40-4FA1-A913-9551EDA6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344AA-AA75-4588-B0C4-55B76B7E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AB2C5-D9C7-4A2A-AC6C-57977A28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9DF0A-B426-463D-ABE7-7D27EFF1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54F65-2E95-4303-A739-8EBF631A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417-975C-460A-86E0-FC8A1923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123A-FB8D-4773-93F3-A8239C9E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2CDB-DEB2-468B-AF1F-78734F2D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DB4-427E-4E8B-B02A-125D4860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CCE-6E3A-41E0-9124-A9E79018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DAB-7393-4E2C-AB4F-678BFDB3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0042-6D74-4CBE-BB7C-7B6224D0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F029-001F-4C83-A150-3E477FF0E2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43964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405C-0073-422B-99C4-7566905004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800" spc="-1" strike="noStrike">
                <a:solidFill>
                  <a:srgbClr val="ccaa00"/>
                </a:solidFill>
                <a:latin typeface="Arial"/>
              </a:rPr>
              <a:t>KlickDichSchlau-Tours Angebot der Woche</a:t>
            </a:r>
            <a:endParaRPr b="0" lang="en-US" sz="4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n Wochenende in W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262600">
            <a:off x="4966920" y="4076640"/>
            <a:ext cx="4176720" cy="2016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nderangebo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Wien-Wochenende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Anreis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zu Fu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oder per Anhal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Übernachtung im Tausend-Sterne Hotel (unter freiem Himm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Stadtrundfahrt mit der Wiener U-Bah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Das Unternehmen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7200" y="1600200"/>
            <a:ext cx="8228880" cy="4494600"/>
            <a:chOff x="457200" y="1600200"/>
            <a:chExt cx="8228880" cy="4494600"/>
          </a:xfrm>
        </p:grpSpPr>
        <p:cxnSp>
          <p:nvCxnSpPr>
            <p:cNvPr id="130" name="_s24592"/>
            <p:cNvCxnSpPr>
              <a:stCxn id="131" idx="0"/>
              <a:endCxn id="132" idx="2"/>
            </p:cNvCxnSpPr>
            <p:nvPr/>
          </p:nvCxnSpPr>
          <p:spPr>
            <a:xfrm flipV="1" rot="16200000">
              <a:off x="5573880" y="2405880"/>
              <a:ext cx="875520" cy="2880720"/>
            </a:xfrm>
            <a:prstGeom prst="bentConnector3">
              <a:avLst>
                <a:gd name="adj1" fmla="val 13122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3" name="_s24591"/>
            <p:cNvCxnSpPr>
              <a:stCxn id="134" idx="0"/>
              <a:endCxn id="132" idx="2"/>
            </p:cNvCxnSpPr>
            <p:nvPr/>
          </p:nvCxnSpPr>
          <p:spPr>
            <a:xfrm flipV="1">
              <a:off x="4571640" y="3408840"/>
              <a:ext cx="3600" cy="8755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5" name="_s24590"/>
            <p:cNvCxnSpPr>
              <a:stCxn id="136" idx="0"/>
              <a:endCxn id="132" idx="2"/>
            </p:cNvCxnSpPr>
            <p:nvPr/>
          </p:nvCxnSpPr>
          <p:spPr>
            <a:xfrm flipH="1" flipV="1" rot="5400000">
              <a:off x="2693520" y="2406240"/>
              <a:ext cx="875520" cy="2880720"/>
            </a:xfrm>
            <a:prstGeom prst="bentConnector3">
              <a:avLst>
                <a:gd name="adj1" fmla="val 13122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32" name="_s24586"/>
            <p:cNvSpPr/>
            <p:nvPr/>
          </p:nvSpPr>
          <p:spPr>
            <a:xfrm>
              <a:off x="3337200" y="16002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ffffff"/>
                  </a:solidFill>
                  <a:latin typeface="Arial"/>
                </a:rPr>
                <a:t>KlickDichSchlau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600" spc="-1" strike="noStrike">
                  <a:solidFill>
                    <a:srgbClr val="ffffff"/>
                  </a:solidFill>
                  <a:latin typeface="Arial"/>
                </a:rPr>
                <a:t>Tour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24587"/>
            <p:cNvSpPr/>
            <p:nvPr/>
          </p:nvSpPr>
          <p:spPr>
            <a:xfrm>
              <a:off x="45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Busreise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24588"/>
            <p:cNvSpPr/>
            <p:nvPr/>
          </p:nvSpPr>
          <p:spPr>
            <a:xfrm>
              <a:off x="333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Schiffsreise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24589"/>
            <p:cNvSpPr/>
            <p:nvPr/>
          </p:nvSpPr>
          <p:spPr>
            <a:xfrm>
              <a:off x="621756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Flugreise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e Bus-Flotte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Voll klimatisiert (es zieht überall hine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Top-aktuelles Retro-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96920" y="1600200"/>
            <a:ext cx="69501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 Schiff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sink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tungsbo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448080" y="1844640"/>
            <a:ext cx="569592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e Flugzeuge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werden je nach Grösse der Reisegruppe aus Einzelteilen zusammengesetz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26539" r="0" b="0"/>
          <a:stretch/>
        </p:blipFill>
        <p:spPr>
          <a:xfrm>
            <a:off x="1979640" y="2924280"/>
            <a:ext cx="532764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Unsere Umsätze in € 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8360" y="1628640"/>
          <a:ext cx="82296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296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5:16:58Z</dcterms:created>
  <dc:creator>Oliver Mochmann</dc:creator>
  <dc:description/>
  <dc:language>en-US</dc:language>
  <cp:lastModifiedBy>Oliver Mochmann</cp:lastModifiedBy>
  <dcterms:modified xsi:type="dcterms:W3CDTF">2009-11-17T20:54:29Z</dcterms:modified>
  <cp:revision>17</cp:revision>
  <dc:subject/>
  <dc:title>Folie 1</dc:title>
</cp:coreProperties>
</file>